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8863-123F-421D-B081-A7DBC72AD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alculator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difference between equal and approx (including no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x, different y not a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Builder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verage rate of chan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f(6) – f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 –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6 –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*** In calculating f(x + h), simply replace each occurrence of x in the formula for f by (x + h).  The parenthesis helps to avoid sign err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***Do not cancel the h from the denominator until you have factored h from the numer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E163-29ED-492D-ABAB-E72FB0B2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91C4-A718-4ABA-9EE5-7BBC35B7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0BCC-6B8E-465B-A284-73304F4D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0148-0DA8-4D40-AC38-64EE1465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11AF-E0E8-45C3-8CDF-D03A3DDA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B6B2-918C-43B2-A31B-ADA1EFA5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B808-CA71-44C5-987E-49EA86C4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B4C0-406D-4156-B9BC-883ED214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0E62-996C-4EC3-AA6E-EE5646AE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B529-50E8-4A81-A117-2BDF59AC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4980-38C6-4AAA-8D47-201C79D3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DEE6-9846-4357-BD8D-BBDB899C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A043-F3C4-4E5B-B0A2-22730197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CC3F-C6C8-4508-B8D5-A041ADD2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87BC-0D37-4316-BC29-E4922D1F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FD8A-E57D-4FEA-81AF-D35FE9E1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AD91-BDCF-461B-BF2A-F6BEA428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A93F-8016-4452-B3DB-98B135AE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203D-8BDB-46EB-8794-29CA00EC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8A7-27EB-4EAA-BA0E-C450AA5C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B4C7-980B-44FA-8FBE-B94C800B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3E42-9F24-4199-9323-CB62095C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ACD8-B445-401D-8D6E-9A464898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999-E111-435E-A636-0D580175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F081-66E3-4755-81FF-6633E36993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5603-ED34-4F5B-9973-22761BE4BD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hapter 1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and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cientific No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752480"/>
          <a:ext cx="5562720" cy="3200400"/>
        </p:xfrm>
        <a:graphic>
          <a:graphicData uri="http://schemas.openxmlformats.org/drawingml/2006/table">
            <a:tbl>
              <a:tblPr/>
              <a:tblGrid>
                <a:gridCol w="2666880"/>
                <a:gridCol w="28958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For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tific Nota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,000,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34,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2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 x 10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 x 10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puting in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cientific No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luate each ex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4.5 x 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(2.7 x 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.7 x 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(3.1 x 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6.3 x 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.1 x 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56386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puting with a calculat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5328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 calculator to evaluate each expression.  Round to the nearest thousand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  6! – 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2590920"/>
          <a:ext cx="91440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90920"/>
                    <a:ext cx="91440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219320" y="5105520"/>
          <a:ext cx="761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5105520"/>
                    <a:ext cx="761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219320" y="3505320"/>
          <a:ext cx="1269720" cy="46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505320"/>
                    <a:ext cx="126972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200240" y="4267080"/>
          <a:ext cx="857160" cy="52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00240" y="4267080"/>
                    <a:ext cx="85716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lication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2 #8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lication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2 #8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lication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2 #9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lication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2 #9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1.2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ization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ne-Variable D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ximum/Minimu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wo-Variable D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dered Pa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1.1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, Data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 the Domain and the R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, 3), (-3, 7), (8,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25 #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26 #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ance =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dpoint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14600" y="1676520"/>
          <a:ext cx="353052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676520"/>
                    <a:ext cx="35305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666880" y="2971800"/>
          <a:ext cx="213372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971800"/>
                    <a:ext cx="213372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26 #24, 30, 3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27 #54, 56, 6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27 #6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ing the Calculator to Make Scatterplot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er the data into List 1 and List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y= (stat plo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rn Plot on, make sure the scatterplot is 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omSt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27 #7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28 #9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al Number Se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1.3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and Their Re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ction No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 = f(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put (independent variab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put (dependent variab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relation is a function if each input value has exactly one output val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termining Fun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e if the relation is a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3, 2), (4, 2), (5, 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, 2), (-1, 3), (1, 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tical Line T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the vertical line test to determine whether each graph represents a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2971800"/>
            <a:ext cx="609480" cy="1219320"/>
          </a:xfrm>
          <a:custGeom>
            <a:avLst/>
            <a:gdLst/>
            <a:ahLst/>
            <a:rect l="l" t="t" r="r" b="b"/>
            <a:pathLst>
              <a:path w="240" h="728">
                <a:moveTo>
                  <a:pt x="0" y="48"/>
                </a:moveTo>
                <a:cubicBezTo>
                  <a:pt x="28" y="388"/>
                  <a:pt x="56" y="728"/>
                  <a:pt x="96" y="720"/>
                </a:cubicBezTo>
                <a:cubicBezTo>
                  <a:pt x="136" y="712"/>
                  <a:pt x="188" y="356"/>
                  <a:pt x="2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52760" y="3200400"/>
            <a:ext cx="1333440" cy="787320"/>
          </a:xfrm>
          <a:custGeom>
            <a:avLst/>
            <a:gdLst/>
            <a:ahLst/>
            <a:rect l="l" t="t" r="r" b="b"/>
            <a:pathLst>
              <a:path w="840" h="496">
                <a:moveTo>
                  <a:pt x="840" y="0"/>
                </a:moveTo>
                <a:cubicBezTo>
                  <a:pt x="540" y="12"/>
                  <a:pt x="240" y="24"/>
                  <a:pt x="120" y="96"/>
                </a:cubicBezTo>
                <a:cubicBezTo>
                  <a:pt x="0" y="168"/>
                  <a:pt x="0" y="368"/>
                  <a:pt x="120" y="432"/>
                </a:cubicBezTo>
                <a:cubicBezTo>
                  <a:pt x="240" y="496"/>
                  <a:pt x="540" y="488"/>
                  <a:pt x="840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24280" y="3048120"/>
            <a:ext cx="14479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162920" y="2895480"/>
            <a:ext cx="685800" cy="1524240"/>
          </a:xfrm>
          <a:custGeom>
            <a:avLst/>
            <a:gdLst/>
            <a:ahLst/>
            <a:rect l="l" t="t" r="r" b="b"/>
            <a:pathLst>
              <a:path w="432" h="960">
                <a:moveTo>
                  <a:pt x="384" y="0"/>
                </a:moveTo>
                <a:lnTo>
                  <a:pt x="0" y="240"/>
                </a:lnTo>
                <a:lnTo>
                  <a:pt x="240" y="624"/>
                </a:lnTo>
                <a:lnTo>
                  <a:pt x="48" y="912"/>
                </a:lnTo>
                <a:lnTo>
                  <a:pt x="432" y="96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termining the Domai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enominator cannot equal ze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adicand cannot be negati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42 #26, 28, 30, 32, 3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43 #5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43 # 54, 5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44 #7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ational Numb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ole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tur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44 #7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1.4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Functions and Their Rates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stant Fun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onstant function is represented b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 = b, where b is a fixed nu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graphed, these are horizontal 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ear Fun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inear function is represented b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 = mx + b, where b is a fixed nu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 is the slo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 is the y-inter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ear Functions have a constant rate of change (the slop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lop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Slop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= rate of chan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hange in 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change in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∆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∆x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Ri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R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lope- given poi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For point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slope =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A positive slope goes up as you read the graph from left to right. (A negative slope goes down as you read the graph from left to right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As the absolute value of the slope gets larger, the steepness of the incline increa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514600" y="2344680"/>
          <a:ext cx="1219320" cy="11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44680"/>
                    <a:ext cx="121932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2590920" y="1752480"/>
          <a:ext cx="259056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1752480"/>
                    <a:ext cx="25905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Calculate the slope between each pair of po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7, 2) and (4, -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8, 2) and (-8, 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nlinear Fun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rate of change is not constant, it is not a linear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e if the data are linear or nonline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59 #3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59 #3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4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4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al Numb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1752480"/>
            <a:ext cx="8229600" cy="4343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2133720"/>
            <a:ext cx="3504960" cy="3429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2514600"/>
            <a:ext cx="2590560" cy="2514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2743200"/>
            <a:ext cx="1600200" cy="1752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65640" y="1752480"/>
            <a:ext cx="723600" cy="4343400"/>
          </a:xfrm>
          <a:custGeom>
            <a:avLst/>
            <a:gdLst/>
            <a:ahLst/>
            <a:rect l="l" t="t" r="r" b="b"/>
            <a:pathLst>
              <a:path w="456" h="2736">
                <a:moveTo>
                  <a:pt x="280" y="0"/>
                </a:moveTo>
                <a:cubicBezTo>
                  <a:pt x="164" y="144"/>
                  <a:pt x="48" y="288"/>
                  <a:pt x="40" y="432"/>
                </a:cubicBezTo>
                <a:cubicBezTo>
                  <a:pt x="32" y="576"/>
                  <a:pt x="168" y="704"/>
                  <a:pt x="232" y="864"/>
                </a:cubicBezTo>
                <a:cubicBezTo>
                  <a:pt x="296" y="1024"/>
                  <a:pt x="456" y="1216"/>
                  <a:pt x="424" y="1392"/>
                </a:cubicBezTo>
                <a:cubicBezTo>
                  <a:pt x="392" y="1568"/>
                  <a:pt x="80" y="1784"/>
                  <a:pt x="40" y="1920"/>
                </a:cubicBezTo>
                <a:cubicBezTo>
                  <a:pt x="0" y="2056"/>
                  <a:pt x="120" y="2120"/>
                  <a:pt x="184" y="2208"/>
                </a:cubicBezTo>
                <a:cubicBezTo>
                  <a:pt x="248" y="2296"/>
                  <a:pt x="416" y="2360"/>
                  <a:pt x="424" y="2448"/>
                </a:cubicBezTo>
                <a:cubicBezTo>
                  <a:pt x="432" y="2536"/>
                  <a:pt x="332" y="2636"/>
                  <a:pt x="232" y="27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743200"/>
            <a:ext cx="609840" cy="1600200"/>
          </a:xfrm>
          <a:custGeom>
            <a:avLst/>
            <a:gdLst/>
            <a:ahLst/>
            <a:rect l="l" t="t" r="r" b="b"/>
            <a:pathLst>
              <a:path w="336" h="1000">
                <a:moveTo>
                  <a:pt x="288" y="40"/>
                </a:moveTo>
                <a:cubicBezTo>
                  <a:pt x="288" y="20"/>
                  <a:pt x="288" y="0"/>
                  <a:pt x="288" y="88"/>
                </a:cubicBezTo>
                <a:cubicBezTo>
                  <a:pt x="288" y="176"/>
                  <a:pt x="336" y="416"/>
                  <a:pt x="288" y="568"/>
                </a:cubicBezTo>
                <a:cubicBezTo>
                  <a:pt x="240" y="720"/>
                  <a:pt x="48" y="928"/>
                  <a:pt x="0" y="10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172200" y="342864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4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4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4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ates of chan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Secant 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straight line joining two points on a grap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Slope 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Vertical 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Horizontal 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As the points get closer and closer to one another it becomes a better estimate of the fun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257800" y="5105520"/>
            <a:ext cx="2590920" cy="1238040"/>
            <a:chOff x="5257800" y="5105520"/>
            <a:chExt cx="2590920" cy="1238040"/>
          </a:xfrm>
        </p:grpSpPr>
        <p:sp>
          <p:nvSpPr>
            <p:cNvPr id="288" name=""/>
            <p:cNvSpPr/>
            <p:nvPr/>
          </p:nvSpPr>
          <p:spPr>
            <a:xfrm>
              <a:off x="5775840" y="5105520"/>
              <a:ext cx="1813680" cy="1238040"/>
            </a:xfrm>
            <a:custGeom>
              <a:avLst/>
              <a:gdLst/>
              <a:ahLst/>
              <a:rect l="l" t="t" r="r" b="b"/>
              <a:pathLst>
                <a:path w="2520" h="1470">
                  <a:moveTo>
                    <a:pt x="0" y="0"/>
                  </a:moveTo>
                  <a:cubicBezTo>
                    <a:pt x="150" y="705"/>
                    <a:pt x="300" y="1410"/>
                    <a:pt x="720" y="1440"/>
                  </a:cubicBezTo>
                  <a:cubicBezTo>
                    <a:pt x="1140" y="1470"/>
                    <a:pt x="1830" y="825"/>
                    <a:pt x="2520" y="18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257800" y="5257080"/>
              <a:ext cx="2590920" cy="90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ates of Chan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Tangent li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e slope of the tangent line is the instantaneous rate of change (derivative) of the fun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105520" y="4648320"/>
            <a:ext cx="2590560" cy="1595160"/>
            <a:chOff x="5105520" y="4648320"/>
            <a:chExt cx="2590560" cy="1595160"/>
          </a:xfrm>
        </p:grpSpPr>
        <p:sp>
          <p:nvSpPr>
            <p:cNvPr id="293" name=""/>
            <p:cNvSpPr/>
            <p:nvPr/>
          </p:nvSpPr>
          <p:spPr>
            <a:xfrm>
              <a:off x="5546880" y="4648320"/>
              <a:ext cx="1814400" cy="1238040"/>
            </a:xfrm>
            <a:custGeom>
              <a:avLst/>
              <a:gdLst/>
              <a:ahLst/>
              <a:rect l="l" t="t" r="r" b="b"/>
              <a:pathLst>
                <a:path w="2520" h="1470">
                  <a:moveTo>
                    <a:pt x="0" y="0"/>
                  </a:moveTo>
                  <a:cubicBezTo>
                    <a:pt x="150" y="705"/>
                    <a:pt x="300" y="1410"/>
                    <a:pt x="720" y="1440"/>
                  </a:cubicBezTo>
                  <a:cubicBezTo>
                    <a:pt x="1140" y="1470"/>
                    <a:pt x="1830" y="825"/>
                    <a:pt x="2520" y="18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105520" y="5334120"/>
              <a:ext cx="2590560" cy="90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宋体"/>
              </a:rPr>
              <a:t>Calculating the average rate of change using formu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01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Average rate of change =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hange in function val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Change in x val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f(b) – f(a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b –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same formula we used for finding the slop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429000" y="4930920"/>
          <a:ext cx="147312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4930920"/>
                    <a:ext cx="14731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Let f(x) = 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Calculate the average rate of change from 4 to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om x to x + 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Calculate the average rate of change, from x to x + h of f(x) = 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Calculate the average rate of change from x to x + h, f(x) = 3x +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assify Real Numb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153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ify each number as one or more of the following: natural, whole, integer, rational, or irratio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066680" y="4952880"/>
          <a:ext cx="68580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952880"/>
                    <a:ext cx="6858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verage and Percent Chan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is also known as the me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 Change =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w value – original 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x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val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lication Examp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2 #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 #9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21:28:02Z</dcterms:created>
  <dc:creator>Preferred Customer</dc:creator>
  <dc:description/>
  <dc:language>en-US</dc:language>
  <cp:lastModifiedBy>Preferred Customer</cp:lastModifiedBy>
  <dcterms:modified xsi:type="dcterms:W3CDTF">2007-08-26T05:03:29Z</dcterms:modified>
  <cp:revision>6</cp:revision>
  <dc:subject/>
  <dc:title>Chapter 1</dc:title>
</cp:coreProperties>
</file>